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308-2AA4-4227-B53E-B9F902C5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88D-4103-4DDF-BE3C-B4BCCA55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F63-D055-49DF-8960-8895AD90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420-D20E-4117-B7A0-B39C096F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267-FA1E-4B33-B98E-7125B070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97D-4CC1-4DD9-BBB9-4180F8B3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178-63C6-439B-A593-F264CF4C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318-83C8-4DF4-AB93-6FFE88A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FAD-A17D-4E3F-AAA4-51197464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B61-6F63-4FB3-804E-82A0D53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5F0-2650-4883-A1A6-2CF5B84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981-1274-42CB-935A-4DABEDF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C175C-9CFD-46D0-A55A-62FEC48D66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C8EC1-3707-4424-8E20-B09046D42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6920" y="1792440"/>
            <a:ext cx="78454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What was the supercontinent that existed 250 million years ago called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. Faul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B. Continentu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. Olympu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D. Pangae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2298600"/>
            <a:ext cx="8658000" cy="26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700" spc="-1" strike="noStrike" u="sng">
                <a:solidFill>
                  <a:srgbClr val="000000"/>
                </a:solidFill>
                <a:uFillTx/>
                <a:latin typeface="Calibri"/>
              </a:rPr>
              <a:t>4.2 The Effects of Plate Boundaries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52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660066"/>
                </a:solidFill>
                <a:latin typeface="Calibri"/>
              </a:rPr>
              <a:t>Transform boundar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9520" y="173196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A transform boundary causes earthquak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0" y="3429000"/>
            <a:ext cx="349884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517760" y="2857680"/>
            <a:ext cx="2665440" cy="17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0040" y="19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A divergent boundary causes earthquakes, volcanic activity, seafloor spreading, and rift valleys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Seafloor spreading creates mid-ocean ridges.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873760" y="0"/>
            <a:ext cx="28130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031840" y="4317840"/>
            <a:ext cx="7112160" cy="254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57200" y="2238480"/>
            <a:ext cx="4402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700" spc="-1" strike="noStrike">
                <a:solidFill>
                  <a:srgbClr val="660066"/>
                </a:solidFill>
                <a:latin typeface="Calibri"/>
              </a:rPr>
              <a:t>Convergent Boundary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240" y="1760040"/>
            <a:ext cx="8674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3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alibri"/>
              </a:rPr>
              <a:t>A convergent boundary causes earthquakes, plate collision, and subduction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Subduction is when a plate slides under another plate. Subduction creates oceanic trenches, volcanoes, and island arc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Coll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Plate collision is when two plates hit each other creating a mountain range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1" descr=""/>
          <p:cNvPicPr/>
          <p:nvPr/>
        </p:nvPicPr>
        <p:blipFill>
          <a:blip r:embed="rId1"/>
          <a:stretch/>
        </p:blipFill>
        <p:spPr>
          <a:xfrm>
            <a:off x="227160" y="69840"/>
            <a:ext cx="4263840" cy="2793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"/>
          <p:cNvPicPr/>
          <p:nvPr/>
        </p:nvPicPr>
        <p:blipFill>
          <a:blip r:embed="rId2"/>
          <a:stretch/>
        </p:blipFill>
        <p:spPr>
          <a:xfrm>
            <a:off x="4260960" y="2863800"/>
            <a:ext cx="4836960" cy="195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5" descr=""/>
          <p:cNvPicPr/>
          <p:nvPr/>
        </p:nvPicPr>
        <p:blipFill>
          <a:blip r:embed="rId3"/>
          <a:stretch/>
        </p:blipFill>
        <p:spPr>
          <a:xfrm>
            <a:off x="87480" y="5052960"/>
            <a:ext cx="55213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types of plate boundaries cause volcano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is the effect of a plate collision?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Input (notes on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What is subduction?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What are the effects of subduction?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effect of a divergent boundary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ren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mountain r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island ch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afloor sp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ift valley would be evidence 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 plate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vergent plate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t plate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alachian Mountain Range is located in the Southeastern United States.  It was created by a plate collision where two plates hit each other.  What type of plate interaction created the Appalachia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ergent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verse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eutian Islands lie on a convergent boundary between the North American and Pacific plates.  What process associated with convergent boundaries probably created this island ch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e coll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floor spre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qu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4.2 Effects of Plate Boundaries Independent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After today you will be able to identify the effects of transform, convergent, and divergent boundaries.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23652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plate-tectonics.jpg"/>
          <p:cNvPicPr/>
          <p:nvPr/>
        </p:nvPicPr>
        <p:blipFill>
          <a:blip r:embed="rId1"/>
          <a:stretch/>
        </p:blipFill>
        <p:spPr>
          <a:xfrm>
            <a:off x="190440" y="284040"/>
            <a:ext cx="88758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0" r="0" b="12535"/>
          <a:stretch/>
        </p:blipFill>
        <p:spPr>
          <a:xfrm>
            <a:off x="2889360" y="2633760"/>
            <a:ext cx="55688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0" b="13407"/>
          <a:stretch/>
        </p:blipFill>
        <p:spPr>
          <a:xfrm>
            <a:off x="3195720" y="2914560"/>
            <a:ext cx="54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0" t="0" r="0" b="34283"/>
          <a:stretch/>
        </p:blipFill>
        <p:spPr>
          <a:xfrm>
            <a:off x="4222800" y="3429000"/>
            <a:ext cx="44640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causes plates to move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02:01Z</dcterms:created>
  <dc:creator>Caroline Roth</dc:creator>
  <dc:description/>
  <dc:language>en-US</dc:language>
  <cp:lastModifiedBy>Caroline Roth</cp:lastModifiedBy>
  <dcterms:modified xsi:type="dcterms:W3CDTF">2011-05-24T02:19:06Z</dcterms:modified>
  <cp:revision>10</cp:revision>
  <dc:subject/>
  <dc:title>Slide 1</dc:title>
</cp:coreProperties>
</file>